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E6C-16AC-4CE2-8D35-0226BDCD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E52-A8B1-47FB-853C-8576C99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CE1-8057-4EDC-9314-E51AFB35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375-DB29-4E4D-9D47-1E9A4CE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6CEC-1D38-4E15-A554-175A3AA2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C508-4E0F-475D-B55F-6AD35FE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4929-06BB-4B94-9826-367BEB6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458D-793B-4753-97EA-33B4A30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C64-F4B8-4939-8E33-0D6D2751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EE5D-8754-40CB-BDF8-9B78B3D1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3E1-0DEC-4BDC-B83C-D13FF73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E76-F92A-4507-A3C9-B6724FBB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40D-A2DE-425A-BB2D-3ED3A70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7C3F-2A25-4D61-9A27-C720116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57B-7A50-4E8A-8784-46286F0E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5F4-DC3D-47B3-AE36-E9FA53C8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3AE-B3C6-4E4D-BAB4-33240B17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CEC-B89D-4403-BA89-5C9E45D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D67-9FCA-4187-93B8-FEF6DDD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36E-DF51-4162-A16F-8A2C2D2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874-4E7B-414F-B743-4A41243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20F-EDEC-4C7E-835D-FC713106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977-8B8E-4131-AD21-D1D2530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620-F263-437E-AFB7-C6A7528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A1E-377D-4648-A323-923F593C17D4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4537-8085-486B-890D-5F48703EEAC8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Money and McKinley Pages 633-638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lection of 1896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old vs. Sil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oss of Gold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nd of Silverit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nd of Populis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12000"/>
          </a:blip>
          <a:srcRect l="0" t="0" r="1902" b="5719"/>
          <a:stretch/>
        </p:blipFill>
        <p:spPr>
          <a:xfrm>
            <a:off x="1589040" y="1143000"/>
            <a:ext cx="4484880" cy="525780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324480" y="1390680"/>
            <a:ext cx="2286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Into Which Box Will the Voter</a:t>
            </a:r>
            <a:br>
              <a:rPr sz="3200"/>
            </a:br>
            <a:r>
              <a:rPr b="1" i="1" lang="en-US" sz="3200" spc="-1" strike="noStrike">
                <a:solidFill>
                  <a:srgbClr val="eaeaea"/>
                </a:solidFill>
                <a:latin typeface="Comic Sans MS"/>
              </a:rPr>
              <a:t>of ’96 Place His Ballo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152280"/>
            <a:ext cx="6019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1896 Election Resul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828800"/>
            <a:ext cx="8448840" cy="453852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304920"/>
            <a:ext cx="6019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9b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Why Did Bryan Lose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874880"/>
            <a:ext cx="74678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His focus on silver undermined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efforts to build bridges to urba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vo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He did not form alliances with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other grou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2001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McKinley’s campaign was well-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organized and highly fund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00200" y="22860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Gold Triumphs Over Silver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270320" cy="47242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410080" y="19810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1900 </a:t>
            </a:r>
            <a:r>
              <a:rPr b="1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Gold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tandard A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nfirmed th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nation’s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mmitment to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the gold standa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A victory for the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forces of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conservatis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19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69b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Why Did Populism Decline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782720"/>
            <a:ext cx="769608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economy experienced rapid change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era of small producers and 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farmers was fading away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Race divided the Populist Party, 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especially in the South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Populists were not able to break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existing party loyalties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1687"/>
              </a:spcBef>
              <a:buClr>
                <a:srgbClr val="c18b05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Most of their agenda was co-opted by</a:t>
            </a:r>
            <a:br>
              <a:rPr sz="2700"/>
            </a:br>
            <a:r>
              <a:rPr b="1" lang="en-US" sz="2700" spc="-1" strike="noStrike">
                <a:solidFill>
                  <a:srgbClr val="eaeaea"/>
                </a:solidFill>
                <a:latin typeface="Comic Sans MS"/>
              </a:rPr>
              <a:t>the Democratic Party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38088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Gold / Silver Bug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Campaign Pin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2438280"/>
            <a:ext cx="52578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76320"/>
            <a:ext cx="6248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William Jennings Bryan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(1860-1925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735360" cy="480060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819520" y="62024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Comic Sans MS"/>
              </a:rPr>
              <a:t>The “Great Commoner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624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William Jennings Brya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12000"/>
          </a:blip>
          <a:srcRect l="10171" t="0" r="0" b="0"/>
          <a:stretch/>
        </p:blipFill>
        <p:spPr>
          <a:xfrm>
            <a:off x="457200" y="1981080"/>
            <a:ext cx="4495680" cy="35020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105520" y="1784880"/>
            <a:ext cx="380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Prairie avenger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mountain lio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Bryan, Bryan, Bryan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Brya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Gigantic troubadour,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speaking like a siege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gu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Smashing Plymouth Rock 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with his boulders</a:t>
            </a:r>
            <a:br>
              <a:rPr sz="2400"/>
            </a:br>
            <a:r>
              <a:rPr b="1" i="1" lang="en-US" sz="2400" spc="-1" strike="noStrike">
                <a:solidFill>
                  <a:srgbClr val="ebd189"/>
                </a:solidFill>
                <a:latin typeface="Comic Sans MS"/>
              </a:rPr>
              <a:t>    from the We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562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18b0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Revivalist style of orator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7632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Bryant’s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Comic Sans MS"/>
              </a:rPr>
              <a:t>“Cross of Gold” Speec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118240"/>
            <a:ext cx="3581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Comic Sans MS"/>
              </a:rPr>
              <a:t>You shall not press down upon the brow of labor this crown of thorns; you shall not crucify mankind upon a cross of gold!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7720" y="1752480"/>
            <a:ext cx="3630600" cy="47246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04920"/>
            <a:ext cx="6172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 Sans MS"/>
              </a:rPr>
              <a:t>William McKinley </a:t>
            </a: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(1843-1901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114800" cy="5257800"/>
          </a:xfrm>
          <a:prstGeom prst="rect">
            <a:avLst/>
          </a:prstGeom>
          <a:ln w="9360">
            <a:solidFill>
              <a:srgbClr val="7176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28800" y="1066680"/>
            <a:ext cx="4476600" cy="5558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15228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Mark Hanna to Candidate McKinle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00200" y="152280"/>
            <a:ext cx="6019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A Giant Straddle”:  Suggestion for a McKinley Political Pos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6925"/>
          <a:stretch/>
        </p:blipFill>
        <p:spPr>
          <a:xfrm>
            <a:off x="1600200" y="2362320"/>
            <a:ext cx="6248520" cy="42670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248520" y="1523880"/>
            <a:ext cx="2590560" cy="309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18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The Seasoned Politici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v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The “Young” Newcom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8484" t="3613" r="8376" b="7233"/>
          <a:stretch/>
        </p:blipFill>
        <p:spPr>
          <a:xfrm>
            <a:off x="1755720" y="228600"/>
            <a:ext cx="4187880" cy="6324480"/>
          </a:xfrm>
          <a:prstGeom prst="rect">
            <a:avLst/>
          </a:prstGeom>
          <a:ln w="9360">
            <a:solidFill>
              <a:srgbClr val="7878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07:23Z</dcterms:created>
  <dc:creator> </dc:creator>
  <dc:description/>
  <dc:language>en-US</dc:language>
  <cp:lastModifiedBy>School District U46</cp:lastModifiedBy>
  <dcterms:modified xsi:type="dcterms:W3CDTF">2008-01-28T20:23:02Z</dcterms:modified>
  <cp:revision>41</cp:revision>
  <dc:subject/>
  <dc:title>The Gilded Age and Urban and Rural Discontent</dc:title>
</cp:coreProperties>
</file>